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FCC-228B-4D84-9211-108B6D9F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0B8-71E3-43F5-8475-BBD51884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778-245D-4083-A5BA-CBF6BA96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4A4-2BE1-4278-B4D4-C4CF1E19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F950-62E7-45FC-AB0B-A06E01E1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4787-7BD6-4A90-AB75-4A6D5CA9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EFD7-1620-4586-B61E-69CD4494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B474-A3E5-43FC-A7C7-D2CE2043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DA34-D522-4E9C-8339-E647A97C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1388-469C-4F53-B3BC-9F5BB549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2921-40AF-42AA-A894-C91CBB0B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F6A-4759-4433-91F9-70E25694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81E7-1AAC-45B8-BBB5-A3011D1A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87DA-69F1-40CF-9006-DE051372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7836-2EC8-46E0-A923-0C17637B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7B07-AD4B-4C47-8A03-9DEDFA1A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33F6-B908-4BCB-A8E7-84DDB1F2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68E-8087-4E7A-B4E9-BBA1D5F0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83E-A1DD-4D32-9C6A-5C495E69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79D-AE10-4D89-9F30-6C169596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AF7-81C0-4C4B-BDB7-30B8D453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CC4-58B0-4EA6-977D-5F3B69DE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80B-4C83-405C-B501-27A130D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CF8-1D11-48D6-A217-4A574FC3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hilippe Lecat pour l'Université de Savo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F53A-7EC0-44F0-8309-D4AD61F8A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hilippe Lecat pour l'Université de Savo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E8E7-8C84-4C26-95BE-762D4E78A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32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700" spc="-1" strike="noStrike">
                <a:solidFill>
                  <a:srgbClr val="336666"/>
                </a:solidFill>
                <a:latin typeface="Arial Black"/>
              </a:rPr>
              <a:t>Relations sociales</a:t>
            </a:r>
            <a:br>
              <a:rPr sz="3700"/>
            </a:br>
            <a:r>
              <a:rPr b="0" i="1" lang="fr-FR" sz="3700" spc="-1" strike="noStrike">
                <a:solidFill>
                  <a:srgbClr val="336666"/>
                </a:solidFill>
                <a:latin typeface="Arial Black"/>
              </a:rPr>
              <a:t>dans l’entreprise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920" y="2060640"/>
            <a:ext cx="7707600" cy="35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Quelques principes en introd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Management social pour la GR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LOGO EST LAAY.jpg"/>
          <p:cNvPicPr/>
          <p:nvPr/>
        </p:nvPicPr>
        <p:blipFill>
          <a:blip r:embed="rId1"/>
          <a:stretch/>
        </p:blipFill>
        <p:spPr>
          <a:xfrm>
            <a:off x="3419640" y="6162840"/>
            <a:ext cx="21063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6B59-E52C-4819-BF19-B1EFD01C00F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La hiérarchie des norm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1788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2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jurispru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juges lorsqu’ils prennent une décision sont tenus d’appliquer la loi. Cependant ; ils en donnent parfois une interprétation pour adapter le texte de loi à une situation concrète. L’ensemble de ces décisions forme la jurisprudence. Elle est très riche en droit du trav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décrets, règlements et circulai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e sont les textes édictés par le gouvernement ou l’administration pour permettre l’application de la lo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016C-00E5-46D5-B4CF-633528C8B01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La hiérarchie des norm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120400"/>
            <a:ext cx="7648560" cy="37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onventions et les accords collec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es entreprises sont organisées par branches ou par méti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es syndicats d’employeurs et les syndicats de salariés signent au sein de ces branches des accords qui sont étendus par le ministre à toutes les entreprises du même mét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cords d’entre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ont signés par l’employeur et les syndicats représentants le personnel de l’entrepri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ntrat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règlement in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EC41-DB19-4FBA-96DB-50BAD6AE691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Organisation judiciair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869000"/>
            <a:ext cx="1512720" cy="1152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’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nde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979640" y="4869000"/>
            <a:ext cx="1368360" cy="1058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ud’ho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419640" y="494172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5940360" y="4869000"/>
            <a:ext cx="1368360" cy="1224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bunal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rec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ur d’Ass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0" y="4941720"/>
            <a:ext cx="1079640" cy="100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7451640" y="5013360"/>
            <a:ext cx="1130400" cy="100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bu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minist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611280" y="3716280"/>
            <a:ext cx="6481800" cy="1081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r d’ap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7524720" y="378936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ap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2771640" y="2205000"/>
            <a:ext cx="2592360" cy="9144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r de Cas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6659640" y="2133720"/>
            <a:ext cx="2016000" cy="9144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eil d’E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3419640" y="4941720"/>
            <a:ext cx="936360" cy="358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3D0C-CA22-4973-8537-94A3FD1190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Historique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9900"/>
                </a:solidFill>
                <a:latin typeface="Arial"/>
              </a:rPr>
              <a:t>L’objet du droit du travail : la protection des travaill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 la relation individuelle à la relation coll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286000" y="2287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92D1-43E1-4519-9F6C-7AE7FF7A4A0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Historique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1945 La sécurité socia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organisation paritaire sous tut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juridiction propre : le T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 budget aussi important que celui de l’Ét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inq missions et cinq bran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vention des acci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vention de la malad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vention de la vieille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vention de la fam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’assurance chô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497-13D5-4854-B57A-3202F2CB6FB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Historiqu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936 Les délégués du personn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stance de récla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945 Les comités d’entrepri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stance d’information et de consul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stion des œuvres 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968 Les délégués syndica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stance de revend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983 Les comités d’hygiène et sécurit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stance d’information et de consul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1786-5206-4D5F-A9C2-6FDAFD309EF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Relations individuel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Le contrat de travai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incipales obligations de l’employ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aiement du sa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alaire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barèmes des conventions d’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obligation de négociation annu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à travail égal, salaire égal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ournitur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hômage « techniqu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la GPEC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écu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e obligation de moyen à une obligation de résu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5690-9736-462E-883F-F00591B937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Relations individuel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Le contrat de travai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lien de subord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t caractérisé par l'exécution d'un travail sous l'autorité d'un employeur qui a le pouvoir de donner des ordres et des directives, d'en contrôler l'exécution et de sanctionner les manquements de son subordon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bligation d’exécuter le travail demand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bligation de rendre comp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bligation de loyauté et de discré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9C6C-96E9-4E9E-983B-B1EB3A9CFC1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Relations individuel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pouvoirs de l’employ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 direction et de g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rôle l’exécution et sanctionne le salari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règlement intéri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vis du CE et contrôle de l’inspecteur du trav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modification du contr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notion de condition substanti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prêt de main d’oeuv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BD9B-AEED-49CC-B201-EE1AE1DCA41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Relations individuel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uspension et rupture du contrat de travai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Les cas de suspen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maladie, l’accident du travail, congé maternité,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Les cas de rup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démission et l’acte de rup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licenci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procédure protect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transac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rupture conventionn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A85D-D2D9-46CF-8FD0-B12D0F79729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Préambu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e module n’a qu’une ambition : essayer de vous familiariser avec l’environnement légal de la GRH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Il ne s’agit pas pour vous de le connaître mais de savoir où il se trou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Le code du travail est un élément de cet environnement (ce n’est pas le seu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E75F-A083-4381-BC2D-C3CEA0D8E4D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icencie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ause économiqu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bligation de reclass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llectif ou individu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Fait personn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use réelle et série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aute gr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aute lou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Des procédure protectric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0DAE-AFBA-4DC6-939F-989E506A140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Conclus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Les difficultés du droit du travai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travailleur est à la fois objet de droit du travail et sujet du droit du trav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 salarié je veux être considéré de façon object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fruit de mon travail peut être évalué et quantifié de manière impartiale. « A travail égal, salaire égal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garantie contre l’arbitraire supposé de mon employ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pendant ; je suis une personne particulière qui souhaite être appréciée différemment des autres. Ma rémunération est aussi fonction de ma fidélité et de mon attachement à l’entrepr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E96D-10EA-4D8A-B75F-99C40199BBD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Conclus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droit du travail est déchiré entre deux aspirations contradictoires des salariés : la liberté et la sécurité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e veux pouvoir prendre mes RTT ou mes congés quand je veu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e veux le maintien de mon emplo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D2B3-13F7-4348-8C87-13445604D9E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Préambu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Souvent le manager se pose la ques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’est ce que j’ai le droit de fai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’est ce le droit du travail prévoit dans cette situ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a raison de se poser cette question mais, il a tort de penser que la réponse lui apportera une solution à son problème de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705E-A3EE-403C-B1B8-0CAE17DE4F4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Bibliographi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haque fois qu’une question de droit se pose, les RH utilisen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de du trav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convention coll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accords d’entrep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contrat de trav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règlement intéri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us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EE4B-A6C7-4C66-9750-D6C97C76FBD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6666"/>
                </a:solidFill>
                <a:latin typeface="Arial Black"/>
              </a:rPr>
              <a:t>Définition 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« Les relations sociales 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nsemble des règles régissant les rapports individuels et collectifs entre les salariés et l’employe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dividuels : le contrat de travail et tout ce qu’il compre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ollectifs : fonctionnement des institutions représentant le personnel auprès de l’employeu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EF8-4DEF-47DB-ACBA-E0C604AFC8A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Introduc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Un princip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contexte légal et formalis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relations sociales sont encadrées par le législateur plus que par le contrat ou les accords d’entrepri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ans l’intérêt des salariés, les règles de forme sont primordiales. L’employeur doit les respecter strictement à défaut de voir ses actes frappés de nullit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s toujour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08DC-034D-4ABF-B167-4E75B25465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Pas toujours 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droit de grè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 ce jour, il est cité dans le préambule de la constitution qui renvoie à des règles d’application qui n’ont jamais été établ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n’est pas encore obligatoire que le contrat de travail soit écr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relations sociales informelles sont plus efficaces que les relations sociales formel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plus efficaces pour qu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05C7-D342-440E-8BE5-B16221795B0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La hiérarchie des norm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1788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Par ordre de préséance 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traités internationa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’union européen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rte et di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hartes sont des accords que les États s’engagent à respecter. La Charte sociale européenne garantit les droits sociaux et économiques de l’homme. Adoptée en 1961, elle a été révisée en 199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irectives sont prises par la commission européenne et les États doivent les transcrire dans leur dispositif législati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ED65-FDB3-43B2-9068-A80318CE127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La hiérarchie des norm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1788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3348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co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946 et 195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200" indent="-37296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958, c’est celle de la V°République. Elle organise les pouvoirs et les compétences des institutions de l’État : le gouvernement, le parlement et les institutions judiciai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lo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17200" indent="-37296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le est voté par le parlement (principalement à la demande du gouvernement sous la V°République.) Certaines lois sont dites d’ordre public, c’est dire que nul ne peut y déroger. C’est souvent le cas en droit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14:23:11Z</dcterms:created>
  <dc:creator>Philippe Lecat</dc:creator>
  <dc:description/>
  <dc:language>en-US</dc:language>
  <cp:lastModifiedBy>ZAKARIA</cp:lastModifiedBy>
  <dcterms:modified xsi:type="dcterms:W3CDTF">2020-02-02T13:15:28Z</dcterms:modified>
  <cp:revision>92</cp:revision>
  <dc:subject/>
  <dc:title>Processus de gestion des compétences</dc:title>
</cp:coreProperties>
</file>